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6.wmf" ContentType="image/x-wmf"/>
  <Override PartName="/ppt/media/image10.jpeg" ContentType="image/jpeg"/>
  <Override PartName="/ppt/media/image22.png" ContentType="image/png"/>
  <Override PartName="/ppt/media/image1.jpeg" ContentType="image/jpeg"/>
  <Override PartName="/ppt/media/image19.png" ContentType="image/png"/>
  <Override PartName="/ppt/media/image21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24C-7168-4DFD-9648-C6F36410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342-1237-4C23-9FE5-EC3C7DA9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367-D058-4B19-A260-308D773B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30D-0282-42D1-80F8-7F21A161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287C-14D0-4372-BE3C-0C8ABC2D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C601-98DB-49BC-81F0-A8AB0C5A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22BC-D92C-4652-9CCB-85FDA49C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10FA-3A6E-43AD-97CA-DB13C2AF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C0A4-DD80-4EA3-96BF-C7489317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1DFA-4452-452D-8A91-EF3A2C31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1985-0CFF-4286-9D94-1CBB0593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FF9-8AB0-41CB-93CE-9760984B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BD14-847E-40C9-B200-B7B9B7C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FED0-C51A-4CF0-83FA-31C7F2E5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FCEC-1E54-4099-AF33-B4CA6B90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DA64-BC31-48F3-B365-688AF6A6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5AF9-0F5D-4C15-B686-BC29789E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D5166-2D64-465C-81A5-B6B86538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4E995-6347-40FF-A97F-0489EFC0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DAF60-8C51-4D30-A93D-7F1C0DB5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CB62E-68FC-4D9A-9264-DC55135D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609D5-E665-4000-A92E-B9AFCCDE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C8B-088B-4D78-9C94-291EFFAD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850B5-9007-46CC-9DE4-A4B7A3B6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B3F31-A1CF-4A44-861A-B84C762B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7C3F7-70EF-4C84-A81A-FC025F81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5F208-9364-49F2-93F0-3BA65568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C2C23-967D-489A-AFF8-600B3553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CF901-3B58-4681-99BB-8A6ECC62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ADE39-5FB7-4E70-BB9C-66D848BE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F48-CCB0-41EF-9845-A0A7DEB2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B9B-C259-44FC-959C-834CC562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0E9-2FFA-4AD6-8BC6-59E8EB81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0CC-88D8-40BD-B109-97A2A946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159-EDE9-4544-AE62-ACC9EE06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B93-3F03-4206-987C-ADC51CA4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7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7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7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7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7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7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10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1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1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1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1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22A0-E7EB-422A-B83B-26DCD63F7D96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7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DA7A-172A-40EB-9C64-CBC7A411F7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3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4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CB9E-B231-4327-85B9-C69CFCFDF7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file:///tmp/home/.config/libreoffice/4/user/gallery/MS900069744%5B1%5D.wav" TargetMode="External"/><Relationship Id="rId3" Type="http://schemas.microsoft.com/office/2007/relationships/media" Target="file:///tmp/home/.config/libreoffice/4/user/gallery/MS900069744%5B1%5D.wav" TargetMode="External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png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ur Trip Around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Brendan Shepherd and Shawn Hiramatsu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97" name="Picture 5" descr="ANd9GcSLfBg0Px6tS-WdjfxVu7AxMNSXRDo0hbhuD2ubC78p0wwMxTKv"/>
          <p:cNvPicPr/>
          <p:nvPr/>
        </p:nvPicPr>
        <p:blipFill>
          <a:blip r:embed="rId1"/>
          <a:stretch/>
        </p:blipFill>
        <p:spPr>
          <a:xfrm>
            <a:off x="2438280" y="25909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98" name="03 Boomin'-Opera Trip.wma" descr=""/>
          <p:cNvPicPr/>
          <p:nvPr/>
        </p:nvPicPr>
        <p:blipFill>
          <a:blip r:embed="rId2"/>
          <a:stretch/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y The First: Mond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:00 Leave for Indianapo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:10 McDonalds $1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:00 Arrive in Indianapolis Indiana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:30 Zoo $1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45 Cheesecake Factory Lunch $ 4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:00 Children's Museum $25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:30 Indianapolis Colts Game $780.00  10:30 Leave to Salt Lake City, U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thumbnail"/>
          <p:cNvPicPr/>
          <p:nvPr/>
        </p:nvPicPr>
        <p:blipFill>
          <a:blip r:embed="rId1"/>
          <a:stretch/>
        </p:blipFill>
        <p:spPr>
          <a:xfrm>
            <a:off x="6095880" y="1828800"/>
            <a:ext cx="1773360" cy="1790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thumbnail"/>
          <p:cNvPicPr/>
          <p:nvPr/>
        </p:nvPicPr>
        <p:blipFill>
          <a:blip r:embed="rId2"/>
          <a:stretch/>
        </p:blipFill>
        <p:spPr>
          <a:xfrm>
            <a:off x="4648320" y="5316480"/>
            <a:ext cx="2324160" cy="154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68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68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Day the Second: 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:30 Get to Salt Lake City, U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:40 McDonalds $5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:00 Ski Res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30 Lunch at Ski Resort $1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:30 Dinner at Ski Resort $1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:00 Leave to San Diego, Califor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5" descr="thumbnail"/>
          <p:cNvPicPr/>
          <p:nvPr/>
        </p:nvPicPr>
        <p:blipFill>
          <a:blip r:embed="rId1"/>
          <a:stretch/>
        </p:blipFill>
        <p:spPr>
          <a:xfrm>
            <a:off x="7010280" y="487692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MC900354226[1]"/>
          <p:cNvPicPr/>
          <p:nvPr/>
        </p:nvPicPr>
        <p:blipFill>
          <a:blip r:embed="rId2"/>
          <a:stretch/>
        </p:blipFill>
        <p:spPr>
          <a:xfrm>
            <a:off x="4648320" y="4635360"/>
            <a:ext cx="1985760" cy="2222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MC900229923[1]"/>
          <p:cNvPicPr/>
          <p:nvPr/>
        </p:nvPicPr>
        <p:blipFill>
          <a:blip r:embed="rId3"/>
          <a:stretch/>
        </p:blipFill>
        <p:spPr>
          <a:xfrm>
            <a:off x="2514600" y="5054760"/>
            <a:ext cx="1625760" cy="1803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MC900446510[1]"/>
          <p:cNvPicPr/>
          <p:nvPr/>
        </p:nvPicPr>
        <p:blipFill>
          <a:blip r:embed="rId4"/>
          <a:stretch/>
        </p:blipFill>
        <p:spPr>
          <a:xfrm>
            <a:off x="304920" y="5100480"/>
            <a:ext cx="1616040" cy="1757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3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ay the Third: Wednesda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:00 a.m. Get to San Diego, 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:15 Breakfast   $5.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:45 Zoo         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:30 Lego Land        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:30 Leave and go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ANd9GcS9wkU1ffuZUSII2z4UGhBHzsYREu9hdZNCFzNcsgFR7VN3JTln"/>
          <p:cNvPicPr/>
          <p:nvPr/>
        </p:nvPicPr>
        <p:blipFill>
          <a:blip r:embed="rId1"/>
          <a:stretch/>
        </p:blipFill>
        <p:spPr>
          <a:xfrm>
            <a:off x="6676920" y="50101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13" name="Picture 9" descr="ANd9GcQ-RT-sUfImb-HfzwvvYoiaumKkCv-AzAN7bj2YxgKrm9MmuwxM8A"/>
          <p:cNvPicPr/>
          <p:nvPr/>
        </p:nvPicPr>
        <p:blipFill>
          <a:blip r:embed="rId2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1"/>
          <p:cNvSpPr/>
          <p:nvPr/>
        </p:nvSpPr>
        <p:spPr>
          <a:xfrm>
            <a:off x="3686040" y="2762280"/>
            <a:ext cx="1771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15" name="Picture 13" descr="ANd9GcSl40zuYOIYkvBRbAoyvcdqwWqG2iDsLvW23KyZK0BBIz1hRe28fg"/>
          <p:cNvPicPr/>
          <p:nvPr/>
        </p:nvPicPr>
        <p:blipFill>
          <a:blip r:embed="rId3"/>
          <a:stretch/>
        </p:blipFill>
        <p:spPr>
          <a:xfrm>
            <a:off x="3124080" y="4803840"/>
            <a:ext cx="2895840" cy="2054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394320" y="2133720"/>
            <a:ext cx="274968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ay the Fourth: Thursday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:30 a.m. Ge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nap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5" descr="ANd9GcQSl8QYzQUNgt_hzQQsPUm1nLeUrb7SWj7pJjWjO3a2fPWHWPT8L8L5Twpo"/>
          <p:cNvPicPr/>
          <p:nvPr/>
        </p:nvPicPr>
        <p:blipFill>
          <a:blip r:embed="rId1"/>
          <a:stretch/>
        </p:blipFill>
        <p:spPr>
          <a:xfrm>
            <a:off x="6019920" y="1600200"/>
            <a:ext cx="2133360" cy="1752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MC910217021[1]"/>
          <p:cNvPicPr/>
          <p:nvPr/>
        </p:nvPicPr>
        <p:blipFill>
          <a:blip r:embed="rId2"/>
          <a:stretch/>
        </p:blipFill>
        <p:spPr>
          <a:xfrm>
            <a:off x="0" y="4419720"/>
            <a:ext cx="2324160" cy="2438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MC900433856[1]"/>
          <p:cNvPicPr/>
          <p:nvPr/>
        </p:nvPicPr>
        <p:blipFill>
          <a:blip r:embed="rId3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MC900441443[1]"/>
          <p:cNvPicPr/>
          <p:nvPr/>
        </p:nvPicPr>
        <p:blipFill>
          <a:blip r:embed="rId4"/>
          <a:stretch/>
        </p:blipFill>
        <p:spPr>
          <a:xfrm>
            <a:off x="3809880" y="42670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3200400" y="2133720"/>
            <a:ext cx="1817640" cy="15415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858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as Pri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total gas price w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478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W! That’s a lot of money. We’re starting to become po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non-gas total money was $1142.60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total money spent was…drum roll please!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1620.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5" descr="ANd9GcQflELPMc-CZMC6_eAFr-fxk1RWLXxKyEwfusHYI_sWxAozxan6"/>
          <p:cNvPicPr/>
          <p:nvPr/>
        </p:nvPicPr>
        <p:blipFill>
          <a:blip r:embed="rId1"/>
          <a:stretch/>
        </p:blipFill>
        <p:spPr>
          <a:xfrm>
            <a:off x="6400800" y="0"/>
            <a:ext cx="1422360" cy="17524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11480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6324480" y="4191120"/>
            <a:ext cx="1803600" cy="1638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7642080" y="2743200"/>
            <a:ext cx="1501920" cy="14763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388620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8"/>
          <a:stretch/>
        </p:blipFill>
        <p:spPr>
          <a:xfrm>
            <a:off x="838080" y="5105520"/>
            <a:ext cx="2749680" cy="1498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0030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2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7:11:44Z</dcterms:created>
  <dc:creator>Lakeview School District</dc:creator>
  <dc:description/>
  <dc:language>en-US</dc:language>
  <cp:lastModifiedBy>Lakeview School District</cp:lastModifiedBy>
  <dcterms:modified xsi:type="dcterms:W3CDTF">2011-04-28T16:57:39Z</dcterms:modified>
  <cp:revision>9</cp:revision>
  <dc:subject/>
  <dc:title>Our Trip</dc:title>
</cp:coreProperties>
</file>